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D7A5-108E-4F62-8C99-61535A58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9DF3-8809-479C-BAC8-4FFD4628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74BF-E583-4DD2-BA7F-833543AC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F005-40C1-440D-95C6-D964F0F6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6CC9-FD82-4BEE-B33A-2391DD37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77DB-1F89-4B6F-AEE1-EA69EEC1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9CAD-F839-4FAE-A882-AC2D6199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BD8D-854A-4C34-B699-C56542F9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B213-757E-416C-90CB-032615CF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FA5C-57E1-4D1A-814F-1BEFFAF5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8CD7-776E-4050-8F7E-BFD538C3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097-F8B2-4D39-BD8D-8B640F7C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1755-C978-4BE8-9241-05564686D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baz.com/prodhuge.asp" TargetMode="External"/><Relationship Id="rId2" Type="http://schemas.openxmlformats.org/officeDocument/2006/relationships/hyperlink" Target="http://www.gobaz.com/prodhuge.asp" TargetMode="External"/><Relationship Id="rId3" Type="http://schemas.openxmlformats.org/officeDocument/2006/relationships/hyperlink" Target="http://www.gobaz.com/prodhuge.asp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gobaz.com/prodhuge.asp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nvest in stocks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ck Certifi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ownership in a Corpora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Include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of the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that is associated with the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should be numbered, so that the company can record the number of the certificate and the number of shares owned by a particular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of the Stockholder (owner of the certific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Shares that the stock certificate represents (it could say any number) should be clearly set fo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ture of the President and the Treasurer or Secretary with their name printed underneath their signature, together with their title (President or Secretary or Treasur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3880" y="1262160"/>
            <a:ext cx="609624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053640" cy="59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96080" y="152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s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7467120" y="533520"/>
            <a:ext cx="685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porat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57200"/>
            <a:ext cx="45720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228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/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457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52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tion # for corporate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457200"/>
            <a:ext cx="7617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64911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123720" y="58672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65530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retary Treas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6781320" y="579096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Stock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028840" y="533520"/>
            <a:ext cx="76212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458200" y="6858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952880" y="838080"/>
            <a:ext cx="281952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990720" y="457200"/>
            <a:ext cx="7162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64771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4343400"/>
            <a:ext cx="22860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785960" y="1327320"/>
          <a:ext cx="5572080" cy="2651040"/>
        </p:xfrm>
        <a:graphic>
          <a:graphicData uri="http://schemas.openxmlformats.org/drawingml/2006/table">
            <a:tbl>
              <a:tblPr/>
              <a:tblGrid>
                <a:gridCol w="5572080"/>
              </a:tblGrid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795760" y="1336680"/>
          <a:ext cx="3552480" cy="4205160"/>
        </p:xfrm>
        <a:graphic>
          <a:graphicData uri="http://schemas.openxmlformats.org/drawingml/2006/table">
            <a:tbl>
              <a:tblPr/>
              <a:tblGrid>
                <a:gridCol w="3552480"/>
              </a:tblGrid>
              <a:tr h="448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  </a:t>
                      </a:r>
                      <a:r>
                        <a:rPr b="0" lang="en-US" sz="25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" descr="click here to close this windo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304920"/>
            <a:ext cx="6019560" cy="6019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click here to close this window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76840" y="3178080"/>
            <a:ext cx="14284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ical 17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entury Ship-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Vas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4471920" y="-23814000"/>
            <a:ext cx="10001160" cy="6534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-4319640" y="-23661720"/>
            <a:ext cx="10001160" cy="6534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1295280"/>
            <a:ext cx="3781440" cy="5038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648320" y="0"/>
            <a:ext cx="3943080" cy="2638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5867280" y="2666880"/>
            <a:ext cx="3276720" cy="2457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4038480" y="3343320"/>
            <a:ext cx="222588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2:54:57Z</dcterms:created>
  <dc:creator>Darien Public Schools</dc:creator>
  <dc:description/>
  <dc:language>en-US</dc:language>
  <cp:lastModifiedBy>Darien Public Schools</cp:lastModifiedBy>
  <dcterms:modified xsi:type="dcterms:W3CDTF">2007-08-31T11:39:45Z</dcterms:modified>
  <cp:revision>6</cp:revision>
  <dc:subject/>
  <dc:title>Slide 1</dc:title>
</cp:coreProperties>
</file>